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853-B010-4538-9880-25BCE445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CCC-A245-46F2-A77D-CA6BA902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8C6-51DD-4AFC-8F31-D189B962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EFA-5201-4416-B548-0CACC92F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3F1DC-918B-4C23-AF8E-72083712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2D16E-22B2-49D1-9790-8C6897F8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D8BB7-F20D-4E6F-B05C-E00CAAB8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DED52-D71A-411C-AB6F-CE33B1A2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9F352-6355-4359-8E02-9B03EABB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F87B8-16CB-4944-8E47-EFFF1870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B6AFC-E1BC-490E-A784-B0FD44ED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0FA-E7C5-4AF4-9BB8-B461156B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E7D68-3B25-41F4-957B-49EE921A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6132A-8D28-4F5F-B330-C15BC876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724D9-E1E0-49CB-B8C6-766375F3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343F3-DF84-4D49-8B2C-082A0A61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D513F-2DE6-4216-9574-08B66D9B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289-E0F2-4AF0-B4EE-BE71E8CA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B61-4781-4BD0-B016-E53B35E3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7BB-F9FD-4B3C-8E44-46B0B9E4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AC5-9AEC-4A8A-9477-3B4B39B9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83A-3FBD-4D3F-91F1-83DB17A2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079-0180-44AA-A511-4E08CEC2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07C-1961-42FE-92A7-4E4DC8E2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0E86-0CEE-49EB-91A3-6A788D53228B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9F8B-B5C7-465B-9599-9781B864D3B6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39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ادوات المالية - الاعتراف والقياس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27280" y="549360"/>
            <a:ext cx="245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اعتراف الأولى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لى المنشأة إثبات الأصل المالى و الالتزام المالى فى ميزانيتها عندما - وفقط عندما - تصبح المنشأة طرفاً فى الأحكام التعاقدية للأداة المال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أصل المالى من الدفات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استبعاد الأصل المالى  من الدفاتر عندم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فقط عندما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تهى فترة سر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ن الحق التعاقدى فى الحصول على تدفقات نقد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ن الأصل المالى 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تحويل الأصل المال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3280" y="475920"/>
            <a:ext cx="5483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ويلات المؤهلة للاستبعاد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ذا نتج عن تحويل أصل واستبعاده من الدفاتر بالكامل حصول المنشأة على أصل مالى جديد أو التزامها بالتزام مالى جديد أو التزامات تأدية الخدمة ،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على المنشأة الاعتراف بالأصل أو الالتزام المالى أو التزامات تأدية الخدمة بالقيمة 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ى حالة استبعاد أصل مالى بالكامل  من الدفاتر، فيجب الاعتراف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ى الأرباح و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فرق بين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 (ب)  إجمالي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المقابل المستلم (متضمناً أى أصل مالى جديد وناقصاً أى التزام مالى جديد) و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أية أرباح أو خسائر متراكمة سبق الاعتراف بها مباشرة فى حقوق الملك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720" y="475920"/>
            <a:ext cx="4186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تزام مالى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تبعد المنشأة  الالتزام المالى (أو جزءاً منه) من ميزانيتها عندما - وفقط عندما - ينتهى إما  بالتخلص منه أو إلغائه أو انتهاء مدته الواردة بالعق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درج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بالأرباح والخسائ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فرق بين القيمة الدفترية للالتزام (أو جزء منه) الذى تم الإعفاء منه أو تحويله إلى طرف آخر متضمناً المصروفات غير المستهلكة وبين المبلغ المدف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قي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ــــ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8085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صول مالية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ستثمارات محتفظ بها حتى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اريخ الاستحقاق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قروض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صول مالي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يتم قياسها </a:t>
            </a:r>
            <a:r>
              <a:rPr b="1" i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</a:t>
            </a:r>
            <a:r>
              <a:rPr b="1" i="1" lang="ar-EG" sz="2400" spc="-1" strike="noStrike">
                <a:solidFill>
                  <a:srgbClr val="ffffff"/>
                </a:solidFill>
                <a:latin typeface="Arial"/>
              </a:rPr>
              <a:t>ة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41300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أولى للأصول المالية و الالتزامات المال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 الاعتراف الأولى بالأصل المالى أو الالتزام المالى على المنشأة قياسه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قيمة العادل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لاحق للأصول المال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أغراض القياس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لاحق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تبوب الاصول المالية ال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ضمحلال قيمة الأصول المالية</a:t>
            </a: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 و إسترداده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استردا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خسا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أص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بالتكلفة المستهلكة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ير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تكلف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سند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ه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خسائر المجمعة في حقوق الملكية تحول لقائمة الدخ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تاح ل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1640" y="907920"/>
            <a:ext cx="23749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محاسبة التغط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قيمة العادل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تدفقات النقد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صافى الاستثمار فى عملية أجنب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ترف محاسبة التغطية بأثر المقاصة على الأرباح أو الخسائر الناتجة عن التغيرات فى القيم العادلة لأداة التغطية و البند المغط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ك ثلاثة أنواع من علاقات التغط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051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يات القيمة العاد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ضمن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أرباح أو 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أرباح أو الخسائر الناتجة عن إعادة قياس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أداة التغط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(بالنسبة لأداة التغطية المشتقة) أو إعادة قياس المكون الأجنبى من القيمة الدفت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سوية القيمة الدفتري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للبند المغطى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قيمة الأرباح أو الخسائر التي لحقت به إذا تم قياس البند المغطى بالتكلف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إذا كان أصلاً مالياً متاحاً للبيع ،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يتم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إستهلاك هذه الأرباح أو الخسائر حتى تاريخ إستحقاق الأصل بطريقة الفائدة الفعلية أو ، إذا تعذر، فبطريقة القسط الثاب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653000"/>
            <a:ext cx="8137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765000"/>
            <a:ext cx="59864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ت خطر التدفقات النقد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مباشرة ضمن حقوق الملكية من خلال قائمة التغير فى حقوق الملكية ذلك الجزء من الأرباح أو خسائر أداة التغطية والتى ثبت انها تغطية فعال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 يتم الاعتراف ضمن الأرباح أو الخسائر بالجزء غير الفعال من الأرباح أو الخسائر على أداة التغط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64000" y="1268280"/>
            <a:ext cx="273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تعري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-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ث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31640" y="24206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1640" y="764640"/>
            <a:ext cx="268596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91628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وضع أسس للاعتراف ولقياس الأصول والالتزامات المالية وكذلك بعض عقود شراء أو بيع البنود غير الما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4000" y="270792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تعريفـــ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4000" y="404640"/>
            <a:ext cx="1882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ل أو الالتزام المالى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قيم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بالقيمة العادلة من خلال الأرباح أو الخسائ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أ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كأصل محتفظ به لأغراض المتاجر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اقتناؤه أو نشأ بصفة أساسية لغرض البيع أو إعادة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لشراء فى مدى زمنى قصير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جزءاً من محفظة أدوات مالية محددة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مشتقات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الية و ليست للتغط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ب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عند الاعتراف الأولى بالقيمة العادلة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19700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ما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دوات مالية أو أية عقود أخرى وتتضمن كل الخصائص الثلاث التال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تغير قيمتها وفقاً للتغير فى سعر فائدة معين أو سعر أداة مالية معينة أو سعر صرف عم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(ب) لا تتطلب صافى استثمار أولى أو تتطلب صافى استثمار أولى أقل من المطلوب لأنواع أخرى من العقود التى يتوقع أن تتأثر تأثراً مماثلاً بالتغيرات  فى عوامل السو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 يتم تسويتها فى تاريخ مستقبلى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00720" y="475920"/>
            <a:ext cx="2386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ول المالية ال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صول غير مش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ة تم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حديدها كأصول متاحة للبيع عند الاقتناء، وغير المبوب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قروض 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استثمارات محتفظ بها حتى تاريخ الاستحقاق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أصول مالية بالقيمة العادلة من خلال الأرباح أو الخسائ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تكلفة المستهلكة للأصل المالى أو الالتزام المالى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هى القيمة التى يقاس بها الأصل المالى أو الالتزام المالى عند الاعتراف الأولى به مضافاً إليه أو مخصوماً منه استهلاك علاوة أو خصم الإصد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طريقة الفائدة الفع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طريقة إستهلاك خصم أو علاوة الإصدار باستخدام سعر فائدة السوق للأدوات المالية المماثلة . والإستهلاك هنا بتحديد القيمة الحالية للأصل أو الإلتزام بحيث الفرق بين رصيدها أول واخر المدة هو استهلاك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4720" y="404280"/>
            <a:ext cx="2602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ارتباط المؤكد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و اتفاق ملزم لتبادل كمية محددة من الموارد بسعر محدد فى تاريخ أو تواريخ مستقبلية محدد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عاملات المتوقع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معاملات غير مؤيدة بارتباط و لكن متوقع حدوثها مستقب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بند الذى يتم تغطيت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ه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و أصل أو التزام أو ارتباط مؤكد أو معاملات متوقعة بدرجة عالية من الاحتمال أو صافى الاستثمار فى عمليات أجنبية والت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-39744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عرض المنشأة لمخاطر التغير فى القيمة العادلة أو التدفقات النقدية المستقبلية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حديدها على أنها بند تمت تغطية مخاط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فعالية تغطية المخاطر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الجزء من مخاطر البند الذي تم تغطيته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dging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نجا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ضمنية 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mbedded Derivatives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ى مكون من مكونات أداة مالية مركبة والتى تؤثر على قيمة الأداة . مثل حق تحويل السند لسهم فهذا الحق يرفع قيمة السن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65000"/>
            <a:ext cx="5256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</a:t>
            </a:r>
            <a:br>
              <a:rPr sz="3200"/>
            </a:b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51:53Z</dcterms:created>
  <dc:creator>Eissa</dc:creator>
  <dc:description/>
  <dc:language>en-US</dc:language>
  <cp:lastModifiedBy>Eissa</cp:lastModifiedBy>
  <dcterms:modified xsi:type="dcterms:W3CDTF">2006-11-15T09:44:40Z</dcterms:modified>
  <cp:revision>32</cp:revision>
  <dc:subject/>
  <dc:title>معيار المحاسبة المصرى رقم (26) الأدوات المالية : " الاعتراف والقياس"</dc:title>
</cp:coreProperties>
</file>